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439E27-3ADF-4974-95EC-2A39144C9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EFEC10-6155-4551-BA81-C00160555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30120" y="542880"/>
            <a:ext cx="6351840" cy="4764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351000" y="5553000"/>
            <a:ext cx="6308640" cy="33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49BDB-2C84-4BB0-81A4-D0F37190D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D43A6-B148-4B12-81E7-8B0A903E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7983C-D4FE-4868-ADE0-1BFE5485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49656-595E-4904-91B6-EAFDA8FD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2268AA-BE6B-454C-A06F-D469561DCD5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6D9EA-0B85-4B75-9650-0A7712E473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F1772-C7F2-40DA-824C-5F288AD0E2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65166E-DB32-4D91-86AB-2E5C81510A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F2B64-CEA9-4E90-99DB-03B170640A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D5C48-49CC-470B-9E5A-97E6C526570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675C7-3026-4AD1-8DD3-705947C896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9F815-886D-4B22-89DB-FD6DB750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EB35D-12B1-46AD-869A-AC481D852C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3F0718-3048-429B-B35D-5829B6903F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68501-019C-45FF-B1EB-11D8547A91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72A8B-1E54-4571-BFCC-985317C2CB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252BD-6BB3-4183-A638-998A837718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58F16-A562-4BB6-AB4E-B5565BF4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CBA99-BFFE-4C64-B954-B29CCE6A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3DEF2-21F2-4617-A885-2FC56829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9B0F0-ACDB-4887-954E-6375D614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C1DEE-8FA8-4428-93AC-2941D990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AC6EC-FDC2-4157-AC0E-649D46A6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E2F86-256E-4715-8295-714E3C998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59EE2-53A9-41AF-A85F-193E4B78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765508-43E1-4340-8C94-FFD89ED0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FAEED2-F275-4866-9447-E8EEB204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158EF-0731-4919-8BD3-A5CB393A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F7BBD-DAAA-41B2-BF03-5C8BB003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09974-A056-41E9-889A-A794D63DF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4DBE7-ECD7-42F8-8A54-E99BE307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EB55F-120B-4E21-8C14-7B56D6EF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89971-C3D7-40C0-BCB5-C1624911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41584-0056-4622-9621-CC84ED97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113D8-D5DA-413F-AACE-4E582E3B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9E0C2-7968-415B-8F1E-B7449EBF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FE15-3038-4538-9BD0-ED66D85B6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240" y="7920"/>
            <a:ext cx="9140760" cy="6850080"/>
            <a:chOff x="3240" y="792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6440" y="3548160"/>
              <a:ext cx="6392880" cy="3309840"/>
              <a:chOff x="2746440" y="354816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6440" y="420516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3280" y="424800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6920" y="531972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5720" y="354816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8520" y="368604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6880" y="213660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" y="792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4"/>
          </p:nvPr>
        </p:nvSpPr>
        <p:spPr>
          <a:xfrm>
            <a:off x="3045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88CF-A133-426A-97A8-4397388BF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D4C4-97FF-4012-A7E7-D11271C61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Learning and Achievement </a:t>
            </a:r>
            <a:br>
              <a:rPr sz="5400"/>
            </a:br>
            <a:endParaRPr b="1" lang="en-US" sz="5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Garamond"/>
              </a:rPr>
              <a:t>School Libraries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3623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Across the </a:t>
            </a:r>
            <a:br>
              <a:rPr sz="44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urriculum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339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For All Students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62949-5BBB-4212-838F-28DC9706BA27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505320" y="762120"/>
            <a:ext cx="2409480" cy="2632680"/>
            <a:chOff x="3505320" y="762120"/>
            <a:chExt cx="2409480" cy="2632680"/>
          </a:xfrm>
        </p:grpSpPr>
        <p:sp>
          <p:nvSpPr>
            <p:cNvPr id="152" name=""/>
            <p:cNvSpPr/>
            <p:nvPr/>
          </p:nvSpPr>
          <p:spPr>
            <a:xfrm flipV="1">
              <a:off x="4699080" y="1335960"/>
              <a:ext cx="0" cy="20588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3505320" y="762120"/>
              <a:ext cx="2409480" cy="1250280"/>
              <a:chOff x="3505320" y="762120"/>
              <a:chExt cx="2409480" cy="1250280"/>
            </a:xfrm>
          </p:grpSpPr>
          <p:sp>
            <p:nvSpPr>
              <p:cNvPr id="154" name=""/>
              <p:cNvSpPr/>
              <p:nvPr/>
            </p:nvSpPr>
            <p:spPr>
              <a:xfrm>
                <a:off x="3505320" y="76212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34920" y="84240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5000760" y="2057400"/>
            <a:ext cx="4142880" cy="1250640"/>
            <a:chOff x="5000760" y="2057400"/>
            <a:chExt cx="4142880" cy="1250640"/>
          </a:xfrm>
        </p:grpSpPr>
        <p:sp>
          <p:nvSpPr>
            <p:cNvPr id="157" name=""/>
            <p:cNvSpPr/>
            <p:nvPr/>
          </p:nvSpPr>
          <p:spPr>
            <a:xfrm flipV="1">
              <a:off x="5000760" y="267804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6452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734160" y="2057400"/>
              <a:ext cx="2409480" cy="1250640"/>
              <a:chOff x="6734160" y="2057400"/>
              <a:chExt cx="2409480" cy="1250640"/>
            </a:xfrm>
          </p:grpSpPr>
          <p:sp>
            <p:nvSpPr>
              <p:cNvPr id="159" name=""/>
              <p:cNvSpPr/>
              <p:nvPr/>
            </p:nvSpPr>
            <p:spPr>
              <a:xfrm>
                <a:off x="6734160" y="205740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63760" y="213804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5378040" y="3122640"/>
            <a:ext cx="2670120" cy="2493360"/>
            <a:chOff x="5378040" y="3122640"/>
            <a:chExt cx="2670120" cy="2493360"/>
          </a:xfrm>
        </p:grpSpPr>
        <p:sp>
          <p:nvSpPr>
            <p:cNvPr id="162" name=""/>
            <p:cNvSpPr/>
            <p:nvPr/>
          </p:nvSpPr>
          <p:spPr>
            <a:xfrm>
              <a:off x="5378040" y="3122640"/>
              <a:ext cx="1391040" cy="19029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638680" y="4365360"/>
              <a:ext cx="2409480" cy="1250640"/>
              <a:chOff x="5638680" y="4365360"/>
              <a:chExt cx="2409480" cy="1250640"/>
            </a:xfrm>
          </p:grpSpPr>
          <p:sp>
            <p:nvSpPr>
              <p:cNvPr id="164" name=""/>
              <p:cNvSpPr/>
              <p:nvPr/>
            </p:nvSpPr>
            <p:spPr>
              <a:xfrm>
                <a:off x="5638680" y="436536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68280" y="444600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ystem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371600" y="3199320"/>
            <a:ext cx="2631960" cy="2493000"/>
            <a:chOff x="1371600" y="3199320"/>
            <a:chExt cx="2631960" cy="2493000"/>
          </a:xfrm>
        </p:grpSpPr>
        <p:sp>
          <p:nvSpPr>
            <p:cNvPr id="167" name=""/>
            <p:cNvSpPr/>
            <p:nvPr/>
          </p:nvSpPr>
          <p:spPr>
            <a:xfrm flipH="1">
              <a:off x="2611800" y="3199320"/>
              <a:ext cx="1391760" cy="19022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371600" y="4441680"/>
              <a:ext cx="2409480" cy="1250640"/>
              <a:chOff x="1371600" y="4441680"/>
              <a:chExt cx="2409480" cy="1250640"/>
            </a:xfrm>
          </p:grpSpPr>
          <p:sp>
            <p:nvSpPr>
              <p:cNvPr id="169" name=""/>
              <p:cNvSpPr/>
              <p:nvPr/>
            </p:nvSpPr>
            <p:spPr>
              <a:xfrm>
                <a:off x="1371600" y="4441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01200" y="4522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228600" y="2209680"/>
            <a:ext cx="4215960" cy="1250640"/>
            <a:chOff x="228600" y="2209680"/>
            <a:chExt cx="4215960" cy="1250640"/>
          </a:xfrm>
        </p:grpSpPr>
        <p:sp>
          <p:nvSpPr>
            <p:cNvPr id="172" name=""/>
            <p:cNvSpPr/>
            <p:nvPr/>
          </p:nvSpPr>
          <p:spPr>
            <a:xfrm flipH="1" flipV="1">
              <a:off x="1549080" y="283032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28600" y="2209680"/>
              <a:ext cx="2409480" cy="1250640"/>
              <a:chOff x="228600" y="2209680"/>
              <a:chExt cx="2409480" cy="1250640"/>
            </a:xfrm>
          </p:grpSpPr>
          <p:sp>
            <p:nvSpPr>
              <p:cNvPr id="174" name=""/>
              <p:cNvSpPr/>
              <p:nvPr/>
            </p:nvSpPr>
            <p:spPr>
              <a:xfrm>
                <a:off x="228600" y="2209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8200" y="2290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2743200" y="2209680"/>
            <a:ext cx="3656880" cy="1904400"/>
            <a:chOff x="2743200" y="2209680"/>
            <a:chExt cx="3656880" cy="1904400"/>
          </a:xfrm>
        </p:grpSpPr>
        <p:sp>
          <p:nvSpPr>
            <p:cNvPr id="177" name=""/>
            <p:cNvSpPr/>
            <p:nvPr/>
          </p:nvSpPr>
          <p:spPr>
            <a:xfrm>
              <a:off x="2743200" y="2209680"/>
              <a:ext cx="3656880" cy="1904400"/>
            </a:xfrm>
            <a:prstGeom prst="ellipse">
              <a:avLst/>
            </a:prstGeom>
            <a:gradFill rotWithShape="0">
              <a:gsLst>
                <a:gs pos="0">
                  <a:srgbClr val="bfbfa7"/>
                </a:gs>
                <a:gs pos="100000">
                  <a:srgbClr val="393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39760" y="2332440"/>
              <a:ext cx="3252600" cy="1650960"/>
            </a:xfrm>
            <a:prstGeom prst="ellipse">
              <a:avLst/>
            </a:prstGeom>
            <a:gradFill rotWithShape="0">
              <a:gsLst>
                <a:gs pos="0">
                  <a:srgbClr val="393932"/>
                </a:gs>
                <a:gs pos="100000">
                  <a:srgbClr val="bfbf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Information Literacy</a:t>
              </a:r>
              <a:br>
                <a:rPr sz="2000"/>
              </a:b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Teaching and Learning</a:t>
              </a:r>
              <a:endParaRPr b="0" lang="en-US" sz="20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00160" y="166680"/>
            <a:ext cx="83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Systemic School Library Improvement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172200"/>
            <a:ext cx="23619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Garamond"/>
              </a:rPr>
              <a:t>Based on National Science Resource Center Reform Model </a:t>
            </a:r>
            <a:r>
              <a:rPr b="0" lang="en-US" sz="1400" spc="-1" strike="noStrike">
                <a:solidFill>
                  <a:srgbClr val="4b2500"/>
                </a:solidFill>
                <a:latin typeface="Garamond"/>
              </a:rPr>
              <a:t>© NSRC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44C6A-FD89-4B23-9FE1-345CE4FB9619}" type="slidenum">
              <a:t>2</a:t>
            </a:fld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Standards </a:t>
            </a:r>
            <a:br>
              <a:rPr sz="44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Drive Curriculum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New York State </a:t>
            </a:r>
            <a:br>
              <a:rPr sz="3600"/>
            </a:br>
            <a:r>
              <a:rPr b="0" lang="en-US" sz="3600" spc="-1" strike="noStrike">
                <a:solidFill>
                  <a:srgbClr val="4b2500"/>
                </a:solidFill>
                <a:latin typeface="Garamond"/>
              </a:rPr>
              <a:t>Information Literacy Standards</a:t>
            </a:r>
            <a:br>
              <a:rPr sz="3600"/>
            </a:b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480" y="-24840"/>
            <a:ext cx="2690280" cy="2888640"/>
            <a:chOff x="6480" y="-24840"/>
            <a:chExt cx="2690280" cy="2888640"/>
          </a:xfrm>
        </p:grpSpPr>
        <p:sp>
          <p:nvSpPr>
            <p:cNvPr id="184" name=""/>
            <p:cNvSpPr/>
            <p:nvPr/>
          </p:nvSpPr>
          <p:spPr>
            <a:xfrm flipH="1" flipV="1">
              <a:off x="1324080" y="926280"/>
              <a:ext cx="696240" cy="1937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6480" y="-24840"/>
              <a:ext cx="2690280" cy="1991520"/>
              <a:chOff x="6480" y="-24840"/>
              <a:chExt cx="2690280" cy="1991520"/>
            </a:xfrm>
          </p:grpSpPr>
          <p:sp>
            <p:nvSpPr>
              <p:cNvPr id="186" name=""/>
              <p:cNvSpPr/>
              <p:nvPr/>
            </p:nvSpPr>
            <p:spPr>
              <a:xfrm rot="20413800">
                <a:off x="146880" y="34560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20413800">
                <a:off x="275760" y="42732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59953-18EE-4E45-8543-D3768F34909C}" type="slidenum">
              <a:t>3</a:t>
            </a:fld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New York State </a:t>
            </a: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Information Literacy Standards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Educational Technology</a:t>
            </a:r>
            <a:br>
              <a:rPr sz="1800"/>
            </a:b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480" y="-24840"/>
            <a:ext cx="2690280" cy="2888640"/>
            <a:chOff x="6480" y="-24840"/>
            <a:chExt cx="2690280" cy="2888640"/>
          </a:xfrm>
        </p:grpSpPr>
        <p:sp>
          <p:nvSpPr>
            <p:cNvPr id="191" name=""/>
            <p:cNvSpPr/>
            <p:nvPr/>
          </p:nvSpPr>
          <p:spPr>
            <a:xfrm flipH="1" flipV="1">
              <a:off x="1324080" y="926280"/>
              <a:ext cx="696240" cy="1937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6480" y="-24840"/>
              <a:ext cx="2690280" cy="1991520"/>
              <a:chOff x="6480" y="-24840"/>
              <a:chExt cx="2690280" cy="1991520"/>
            </a:xfrm>
          </p:grpSpPr>
          <p:sp>
            <p:nvSpPr>
              <p:cNvPr id="193" name=""/>
              <p:cNvSpPr/>
              <p:nvPr/>
            </p:nvSpPr>
            <p:spPr>
              <a:xfrm rot="20413800">
                <a:off x="146880" y="34560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20413800">
                <a:off x="275760" y="42732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D531C-A8F5-4575-9610-37F5A3E95B8D}" type="slidenum">
              <a:t>4</a:t>
            </a:fld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Educational Technology</a:t>
            </a:r>
            <a:br>
              <a:rPr sz="4000"/>
            </a:b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Education Law </a:t>
            </a:r>
            <a:br>
              <a:rPr sz="3600"/>
            </a:b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and the 21</a:t>
            </a:r>
            <a:r>
              <a:rPr b="1" lang="en-US" sz="3600" spc="-1" strike="noStrike" baseline="30000">
                <a:solidFill>
                  <a:srgbClr val="a69564"/>
                </a:solidFill>
                <a:latin typeface="Garamond"/>
              </a:rPr>
              <a:t>st</a:t>
            </a:r>
            <a:r>
              <a:rPr b="1" lang="en-US" sz="3600" spc="-1" strike="noStrike">
                <a:solidFill>
                  <a:srgbClr val="a69564"/>
                </a:solidFill>
                <a:latin typeface="Garamond"/>
              </a:rPr>
              <a:t> Century Learner</a:t>
            </a:r>
            <a:endParaRPr b="1" lang="en-US" sz="36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30481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Educational Technology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Education Law 814 </a:t>
            </a:r>
            <a:br>
              <a:rPr sz="2800"/>
            </a:b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Internet Safety Course of Study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480" y="-24840"/>
            <a:ext cx="2690280" cy="2888640"/>
            <a:chOff x="6480" y="-24840"/>
            <a:chExt cx="2690280" cy="2888640"/>
          </a:xfrm>
        </p:grpSpPr>
        <p:sp>
          <p:nvSpPr>
            <p:cNvPr id="198" name=""/>
            <p:cNvSpPr/>
            <p:nvPr/>
          </p:nvSpPr>
          <p:spPr>
            <a:xfrm flipH="1" flipV="1">
              <a:off x="1324080" y="926280"/>
              <a:ext cx="696240" cy="1937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6480" y="-24840"/>
              <a:ext cx="2690280" cy="1991520"/>
              <a:chOff x="6480" y="-24840"/>
              <a:chExt cx="2690280" cy="1991520"/>
            </a:xfrm>
          </p:grpSpPr>
          <p:sp>
            <p:nvSpPr>
              <p:cNvPr id="200" name=""/>
              <p:cNvSpPr/>
              <p:nvPr/>
            </p:nvSpPr>
            <p:spPr>
              <a:xfrm rot="20413800">
                <a:off x="146880" y="34560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20413800">
                <a:off x="275760" y="42732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"/>
          <p:cNvSpPr/>
          <p:nvPr/>
        </p:nvSpPr>
        <p:spPr>
          <a:xfrm>
            <a:off x="1676520" y="4876920"/>
            <a:ext cx="624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09960" y="426708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Garamond"/>
              </a:rPr>
              <a:t>School Library Media Specialists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12BAE-1AA7-4F93-9C4D-BCD138F6ADFD}" type="slidenum">
              <a:t>5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69564"/>
                </a:solidFill>
                <a:latin typeface="Garamond"/>
              </a:rPr>
              <a:t>Educational Technology</a:t>
            </a:r>
            <a:br>
              <a:rPr sz="4000"/>
            </a:br>
            <a:r>
              <a:rPr b="0" lang="en-US" sz="4000" spc="-1" strike="noStrike">
                <a:solidFill>
                  <a:srgbClr val="a69564"/>
                </a:solidFill>
                <a:latin typeface="Garamond"/>
              </a:rPr>
              <a:t>Internet Safety Course of Study</a:t>
            </a: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520" y="3047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Educational Technology</a:t>
            </a: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Professional Development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7b6d47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-69480" y="-101160"/>
            <a:ext cx="2690640" cy="2889720"/>
            <a:chOff x="-69480" y="-101160"/>
            <a:chExt cx="2690640" cy="2889720"/>
          </a:xfrm>
        </p:grpSpPr>
        <p:sp>
          <p:nvSpPr>
            <p:cNvPr id="207" name=""/>
            <p:cNvSpPr/>
            <p:nvPr/>
          </p:nvSpPr>
          <p:spPr>
            <a:xfrm flipH="1" flipV="1">
              <a:off x="1248120" y="850680"/>
              <a:ext cx="696600" cy="1937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-69480" y="-101160"/>
              <a:ext cx="2690640" cy="1991880"/>
              <a:chOff x="-69480" y="-101160"/>
              <a:chExt cx="2690640" cy="1991880"/>
            </a:xfrm>
          </p:grpSpPr>
          <p:sp>
            <p:nvSpPr>
              <p:cNvPr id="209" name=""/>
              <p:cNvSpPr/>
              <p:nvPr/>
            </p:nvSpPr>
            <p:spPr>
              <a:xfrm rot="20413800">
                <a:off x="70920" y="2692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20413800">
                <a:off x="199800" y="35136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"/>
          <p:cNvSpPr/>
          <p:nvPr/>
        </p:nvSpPr>
        <p:spPr>
          <a:xfrm>
            <a:off x="1676520" y="4876920"/>
            <a:ext cx="6248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9A76-FB51-4D39-8809-2E119BECEE78}" type="slidenum">
              <a:t>6</a:t>
            </a:fld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0:37:35Z</dcterms:created>
  <dc:creator> </dc:creator>
  <dc:description/>
  <dc:language>en-US</dc:language>
  <cp:lastModifiedBy> </cp:lastModifiedBy>
  <dcterms:modified xsi:type="dcterms:W3CDTF">2009-05-08T16:11:52Z</dcterms:modified>
  <cp:revision>111</cp:revision>
  <dc:subject/>
  <dc:title>Work Group Question here</dc:title>
</cp:coreProperties>
</file>